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270E-44CE-40E3-94EA-646F50D43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B257-308A-4339-9662-AEDBF8443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1D0B-394D-46AE-8293-82AE616B3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8A24-295B-4833-861F-517AB77BB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C7F-3493-4EC0-9CE2-924E2D5D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BEC-F407-4017-AC2C-ABBB8EC7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FE8-ED91-4E1C-B439-F6D2FF5C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4CC-5EBE-475E-9B59-90000766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F6F-3B93-4799-81F8-7E07022C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BE1-EC0C-42E7-8EA2-4A7787AD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1AA-F443-4C80-A2F2-8E033325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492-C6D5-455C-AE72-FCFA1EAB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53B-8832-461F-A0D1-A4AF4CE2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553-E43D-498D-A498-78D1D5A0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CD3-2827-41BB-893B-1A80A9D6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812-84AE-401C-A708-EE24073B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1DEE-6755-4C8F-8A25-88D67DD0E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13.xml"/><Relationship Id="rId8" Type="http://schemas.openxmlformats.org/officeDocument/2006/relationships/slide" Target="slide18.xml"/><Relationship Id="rId9" Type="http://schemas.openxmlformats.org/officeDocument/2006/relationships/slide" Target="slide4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5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6.xml"/><Relationship Id="rId18" Type="http://schemas.openxmlformats.org/officeDocument/2006/relationships/slide" Target="slide11.xml"/><Relationship Id="rId19" Type="http://schemas.openxmlformats.org/officeDocument/2006/relationships/slide" Target="slide16.xml"/><Relationship Id="rId20" Type="http://schemas.openxmlformats.org/officeDocument/2006/relationships/slide" Target="slide21.xml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523880" y="0"/>
            <a:ext cx="723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hort Story Jeopard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143000"/>
          <a:ext cx="8153280" cy="542592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lements of a short s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re el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gurative 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ndom Ques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63" descr="C:\Users\newmanr\AppData\Local\Microsoft\Windows\Temporary Internet Files\Content.IE5\BSYQ3I9V\MC900441734[1].png"/>
          <p:cNvPicPr/>
          <p:nvPr/>
        </p:nvPicPr>
        <p:blipFill>
          <a:blip r:embed="rId21"/>
          <a:stretch/>
        </p:blipFill>
        <p:spPr>
          <a:xfrm>
            <a:off x="22320" y="-228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94360" y="1828800"/>
            <a:ext cx="779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point of view is usually told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first or third person in which the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old from the perspective of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racter and how events appear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m or 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805680" y="1714680"/>
            <a:ext cx="72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vide two ways in which a charac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n be established in a story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727200" y="1809720"/>
            <a:ext cx="746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part of plot gives the r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ssential information or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the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404720" y="1981080"/>
            <a:ext cx="610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vents in the story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d up to the climax from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iting force is known as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332000" y="1752480"/>
            <a:ext cx="68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a moment of high tension,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oint of highest emotion 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citement in a sto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330200" y="1771560"/>
            <a:ext cx="61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roblem in a story whi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duces the conflict and s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lot in motion is called th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132920" y="1905120"/>
            <a:ext cx="636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e ending of the story, 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olution of the conflict.  It 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ccur at the same time a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ma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847160" y="2057400"/>
            <a:ext cx="566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direct comparison that d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 use “like” or “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ample: Juliet is the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1396440" y="1905120"/>
            <a:ext cx="613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big blue bug bit a big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ar, and the big black bear b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lue blood” is an example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figurative dev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112040" y="2057400"/>
            <a:ext cx="673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indirect comparison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s “like” or “as” is known as t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ample: he swims like a dolp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149840" y="1866960"/>
            <a:ext cx="644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equence in which the auth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ranges the events of a stor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n as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167840" y="1447920"/>
            <a:ext cx="636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ag weighed a gaz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” is an example of t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gurative device, which u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aggeration to create a s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ression, but is not mean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ken literal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827280" y="1295280"/>
            <a:ext cx="7270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literary device is used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an inanimate object or abs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man qualit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ample: everywhere I went,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lked me, biding his time, wa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envelop me in his ar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167480" y="1790640"/>
            <a:ext cx="63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lot of a short story m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ways contain this, which occ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two forces are oppo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ch o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326960" y="1752480"/>
            <a:ext cx="596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ype of conflict occ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a person comes in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pposition with another pers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imals, or nature; anyth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part from his/herself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847080" y="1752480"/>
            <a:ext cx="696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ype of conflict occurs 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erson is struggling with him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rself (conscience, fear, indecisi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544040" y="1752480"/>
            <a:ext cx="617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 story, the time and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which a story occurs is kn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t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482840" y="1752480"/>
            <a:ext cx="632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a short story, the central idea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view of life, or the t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out the human experience,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n often be phrased in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rms is known as t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395360" y="1752480"/>
            <a:ext cx="624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entral character in conflic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“good guys,” or the charac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identify with in a story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n as t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150560" y="1981080"/>
            <a:ext cx="671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force or forces working agai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rotagonist is calle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Newman, Ruth</cp:lastModifiedBy>
  <dcterms:modified xsi:type="dcterms:W3CDTF">2011-02-13T21:05:56Z</dcterms:modified>
  <cp:revision>8</cp:revision>
  <dc:subject/>
  <dc:title>Slide 1</dc:title>
</cp:coreProperties>
</file>